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C37-2EA7-43BD-B188-018B9808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F6D-7980-466D-8690-FE24A0A0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006-CB87-425C-B891-27312EF3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5BD-9461-402A-B34C-A74C74E1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909-0971-4462-9445-0DDBE563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0E4-C77E-4F0F-B5CD-A7168EB9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18E-6C95-42DF-B3FC-43F659E6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916-14FC-47A8-BBB4-FD345DCC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73E-87D5-4785-9E95-86E8D68C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0B0-64B3-47E2-A422-EC6AA803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DC8-7B83-4D0F-8AEC-97DB091E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4E6-EB7E-49B2-82B1-13D7ABA3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Verdana"/>
              </a:rPr>
              <a:t>Heavy Ha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23160" y="297180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1600200" y="64771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952880" y="3809880"/>
            <a:ext cx="3962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Working Ms Roboto\Gary Bauer\2014 Supplements\Gosselin\PPTs - Laura Becker\Gosselin 5e cover.jpg"/>
          <p:cNvPicPr/>
          <p:nvPr/>
        </p:nvPicPr>
        <p:blipFill>
          <a:blip r:embed="rId4"/>
          <a:stretch/>
        </p:blipFill>
        <p:spPr>
          <a:xfrm>
            <a:off x="762120" y="1905120"/>
            <a:ext cx="3370320" cy="4216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C40C-03E9-407C-B769-CDC2210E5AF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le 1"/>
          <p:cNvSpPr/>
          <p:nvPr/>
        </p:nvSpPr>
        <p:spPr>
          <a:xfrm>
            <a:off x="4267080" y="4114800"/>
            <a:ext cx="46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y and Lesbia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ner Ab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ay Male Surviv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imate partner abuse is a leading health problem facing gay m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y and bisexual me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overcome social barriers that prevent others from seeing their abuse as legitimat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d not to report intimate partner ab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likely to deny or minimize the abuse that is perpetrated against th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esbian Surviv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imate partner violence is epidemic in the lesbian community and remains largely hid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esbian community clings to a utopian existence that fails to acknowledge that IPV is occurrin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reluctance to discuss IPV is harmful to its victims, leaving them isolated and rejec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al Ab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al violence that invokes fear of the abuser and causes the victim to modify his or her behavior in response to the assault or potential assault is physical abus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tting, beating, pushing, slapping, kicking, pulling hair, biting, punching, burning, and arm twisting are examples of abusive physical assaults that may also rise to the level of criminal behavio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unn, P. (2012). Men as victims: “Victim” identities, gay identities, and masculinities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Journal of Interpersonal Violence, 27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17), 3442–3467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xual Ab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xual partner abuse includes any forced behavior intended to demean or humiliate the partner and instigate feelings of shame or vulnerabil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eaning remarks about the partner’s appearance or background, berating the partner, and withholding sex as a punishment are abusive in natur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forms of sexual abuse constitute criminal behavio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unn, P. (2012). Men as victims: “Victim” identities, gay identities, and masculinities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Journal of Interpersonal Violence, 27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17), 3442–3467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otional/Psychological Ab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ing repeated hurtful exchanges with disregard for the partner’s feelings, which are meant to control the victim, is an abuse of the relationship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imacy is not an invitation for exploita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isolation and manipulation are forms of emotional abuse often used as tactics to set up the relationship for further controlling behavior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 Ab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use or misuse of financial or other monetary resources of the partnershi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ling a person’s employment by trying to get him/her fired, making excessive calls to work, or creating scenes are examples of efforts to control the victim’s financial situation and force depend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the partner’s identity, credit cards, checks, or money without permission is economic abuse that may rise to the level of criminal behav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ty Ab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threat of “outing” and exposure to homophobi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ing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act of exposing someone as a homosexu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ling family, boss, or neighbors about a victim’s identity may jeopardize personal relationships and the person’s jo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atening to “out” someone can cause anxiety and increase the person’s iso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essinger, A. M. (2011). Invisible victims: Same-sex IPV in the National Violence Against Women Survey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Journal of Interpersonal Violence, 26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11), 2228–2243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oretical Explan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minist Appro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ten used to describe the context of battering within LGBT relationships as well as heterosexual relationship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-pronged analysis of the abus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01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use is influenced by numerous sources of oppression that exist within the lives of gay and bisexual survivo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01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pression from society may cause stress in a relationship and lowered self-este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assouneh, D., &amp; Gloss, N. (2008). The influence of gender role stereotyping on women’s experiences of female same-sex intimate partner violence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Violence Against Women, 14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3), 15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oretical Explan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sychologic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s that the feminist approach is inadequate to fully explain same-sex partner abuse, since both men and women can be perpetrato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ciopolitical context of homophobia and internalized homophobia create the environment that supports relationship abus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sonal characteristics may also influence the choice to use abuse in relationship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oretical Explan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sychologic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imary focus is on the institution of fami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stigates stressors specifically related to the families, and how these stressors result in violence between partner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h stressors could include socioeconomic status, race, sexuality, income, education, beliefs regarding traditional gender roles, and relig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apter Objecti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 examples of violence occurring in LGBT relationships specific to the popu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why an understanding of intimate partner violence in the LGBT community is vit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theoretical explanations for abuse in the LGBT commun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problems for the LGBT community in accessing criminal justice interven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how the Full Faith and Credit requirement impacts violence in same-gendered relationshi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oretical Explan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ized Homophob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alized stress due to homophob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s of condemnation, loathing, fear, societal disdain, and religious rejection of all things homosexual and of those who practice i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times called internalized homonegativ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alization of negative societal and environmental attitudes against the LGBT popu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riminal Justice Interven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ventions vary based on the severity of the incident and whether or not the act is a crim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otional or psychological abuses may not be criminal, even though they may be considered abusive and cause mental anguish, loss of self-esteem, or loss of self-respec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riminal Justice Interven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riminal justice system is reactive rather than proact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reacts through police action and by court intervention when an act rises to the level of violating criminal la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n act to be legally considered domestic violence, the individuals must fall within the state’s definition of a domestic relationshi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actors in Reporting to the Poli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perpetrated by a same-sex partner can be confusing to law enforcement offic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reotypical responses by police can be devastating to the victi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itionally, police officers have looked at gender and physical size when determining who is at fault in a domestic disput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actors in Reporting to the Poli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arer picture of who is in need of protection must be made in same-sex viol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imary aggresso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person in a domestic dispute who is the most significant or principal aggress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egal Iss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-sex victims receive fewer legal protec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y and lesbian victims may not have civil nor criminal protections from abuse unless the definition of “domestic” is recognized and attain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services are often unavailable to LGBT surviv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y few shelters and hotlines exist for LGBT individua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bian, gay, bisexual, and transgendered (LGBT) commun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made up of individuals from every ethnic and racial background residing in the U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s are particularly vulnerable to marginalization and devaluation in our soci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willingness to acknowledge intimate partner violence comes from within the community as well as from outsi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fini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GB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ronym for lesbian, gay, bisexual, and transgendered (or trans) individuals; sometimes written as GLB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emographic category, similar to race/ethnicity, sex, disability, and so 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for large numbers of people who have major characteristics in common, although they are certainly not “the same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fini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sbian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 A person who identifies as a woman and whose sexual orientation is primarily to other w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a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 Refers to a person who identifies as a man and whose sexual orientation is primarily to other 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a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homosex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 Terms that are often used interchangeably to refer to either gay males or lesbian fem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fini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nsgender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 A term used to describe a group of individuals whose gender identity, and how it is expressed, is different from the sex assigned at bir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Queer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 A controversial term that some LGBT people have reclaim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rm is broadly inclusive and can refer either to gender identity, sexual orientation, or both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times used as an umbrella term to describe LGBT commun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esbian Intimate Partner Viole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bian Intimate Partner Violence (LPV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s of a pattern of violent or coercive behaviors that are committed by a lesbian against her lesbian partner for the purpose of controlling the partner’s thoughts, beliefs, or condu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physical, sexual, emotional, economic, or identity abuse, which is used to maintain or punish the partner for resisting the perpetrator’s contro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ay Male Intimate Partner Viole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y Male Intimate Partner Violen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unwanted physical force, psychological abuse, or material or property damage inflicted by one man on anoth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buse consists of a pattern of violent behaviors for the purpose of controlling the partner’s thoughts, beliefs, or condu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evalence of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of the reports on intimate partner violence come from small sample groups or convenience samples from the LGBT commun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a result, the prevalence figures must be viewed with cau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o not know exactly how much LGBT intimate partner violence exists, in part because of the hidden nature of LGBT relationship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2T18:08:08Z</dcterms:created>
  <dc:creator>Owner</dc:creator>
  <dc:description/>
  <dc:language>en-US</dc:language>
  <cp:lastModifiedBy>Cecil, Kevin</cp:lastModifiedBy>
  <dcterms:modified xsi:type="dcterms:W3CDTF">2013-09-16T14:05:08Z</dcterms:modified>
  <cp:revision>70</cp:revision>
  <dc:subject/>
  <dc:title>PowerPoint Presentation</dc:title>
</cp:coreProperties>
</file>